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E18-04A8-431D-BC8D-EB4AF977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B67-C6E0-47C1-A0A7-AC969E29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F20-89C4-4E11-8951-7AAF7E4F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4B7-9896-486B-BC5E-2270612A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2964-AD7C-4311-A42D-A8E63C50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9DC7-0229-4750-A86A-A8FC066C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35B6-4A65-4695-BE69-F29674B1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9FF5-C4A9-4D3E-A13C-7B40807E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F820-31D7-416C-8D58-65F4E6FC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4033-42C6-415A-AE2A-DAF72937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8735-A27D-4E20-9B21-91B5A07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7A1-F547-4C4B-8270-4657D0B9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4716-6061-4801-9976-4653FA7A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962C-8009-4DA1-BEDA-56483979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7A69-8182-4B7C-B9F3-6070C821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531B-5F7A-4D3B-96D9-D4DF14D5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F8EC-FA99-4B0E-9B14-9A525611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3B3-0EB9-4268-B05C-BA422DDB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BE6-1828-427F-90E1-02051DAB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682-3BD9-4DB1-AD5B-DB6CF8A6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BEE-C7AC-4C41-ACD0-F6C85538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8AE-9DFC-4B12-A347-9F4239C6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65F-06AC-442E-90D6-C519728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10E-C297-42FE-A11A-27047837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6B79-2B6F-4226-9979-D0D190CEF4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0779-4106-448D-8D40-25B326D9C2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eiforosxoleio.gr/content/.../Huckle%20Educ%20Sustain.pdf" TargetMode="External"/><Relationship Id="rId2" Type="http://schemas.openxmlformats.org/officeDocument/2006/relationships/hyperlink" Target="http://www.aeiforosxoleio.gr/content/.../Huckle%20Educ%20Sustain.pdf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eekpe.gr/index.php/synedrio-5/erevnes-5ou/84-thematologia-kai-diastaseis-tis-aeiforou-anaptyksis-sta-sxolika-programmata-perivallontikis-ekpaidefsis" TargetMode="External"/><Relationship Id="rId2" Type="http://schemas.openxmlformats.org/officeDocument/2006/relationships/hyperlink" Target="http://www.peekpe.gr/index.php/synedrio-5/erevnes-5ou/84-thematologia-kai-diastaseis-tis-aeiforou-anaptyksis-sta-sxolika-programmata-perivallontikis-ekpaidefsis" TargetMode="External"/><Relationship Id="rId3" Type="http://schemas.openxmlformats.org/officeDocument/2006/relationships/hyperlink" Target="http://www.peekpe.gr/index.php/synedrio-5/erevnes-5ou/84-thematologia-kai-diastaseis-tis-aeiforou-anaptyksis-sta-sxolika-programmata-perivallontikis-ekpaidefsis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22856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 u="sng">
                <a:solidFill>
                  <a:srgbClr val="ffffff"/>
                </a:solidFill>
                <a:uFillTx/>
                <a:latin typeface="Tahoma"/>
              </a:rPr>
              <a:t>             </a:t>
            </a:r>
            <a:r>
              <a:rPr b="1" lang="el-GR" sz="4000" spc="-1" strike="noStrike" u="sng">
                <a:solidFill>
                  <a:srgbClr val="ffffff"/>
                </a:solidFill>
                <a:uFillTx/>
                <a:latin typeface="Tahoma"/>
              </a:rPr>
              <a:t>ΣΕΜΙΝΑΡΙΟ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l-GR" sz="4000" spc="-1" strike="noStrike">
                <a:solidFill>
                  <a:srgbClr val="ffffff"/>
                </a:solidFill>
                <a:latin typeface="Tahoma"/>
              </a:rPr>
              <a:t>« </a:t>
            </a:r>
            <a:r>
              <a:rPr b="0" lang="el-GR" sz="4000" spc="-1" strike="noStrike">
                <a:solidFill>
                  <a:srgbClr val="ffffff"/>
                </a:solidFill>
                <a:latin typeface="Tahoma"/>
              </a:rPr>
              <a:t>Εισαγωγή στις Παιδαγωγικές Αρχές  της Εκπαίδευσης για την Αειφορία »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5970600"/>
            <a:ext cx="41911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Τσαλίκη Χριστίν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Υπεύθυνη Περιβαλλοντικής Εκπαίδευσης Π.Ε. Αν. Θεσ/νίκη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6430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Ένα πρόγραμμα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Εκπαίδευσης για την Αειφορία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είνα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Κοντά στην πραγματική ζωή των μαθητών μας και στα ζητήματα που αντιμετωπίζου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ροσανατολισμένο στις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ρχές της εκπαίδευσης για την αειφορία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λληλεγγύη, κοινωνική δικαιοσύνη, οικολογική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βιωσιμότητα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λευθερία, υπευθυνότητα, διάλογος, ανεκτικότητα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Καλλιεργεί την  κριτική σκέψη και τον ολιστικό τρόπο προσέγγισης της γνώση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νθαρρύνει τα παιδιά να γίνουν </a:t>
            </a:r>
            <a:r>
              <a:rPr b="1" lang="el-GR" sz="2000" spc="-1" strike="noStrike" u="sng">
                <a:solidFill>
                  <a:srgbClr val="ffffff"/>
                </a:solidFill>
                <a:uFillTx/>
                <a:latin typeface="Tahoma"/>
              </a:rPr>
              <a:t>ενεργοί πολίτες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ωθώντας τα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ν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--γνωρίσουν τον κόσμο που τα περιβάλλε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--να ερμηνεύσουν την πραγματικότητα που βιώνουν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--να δράσουν  για τον πιθανό μετασχηματισμό τη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839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Ας σκεφτούμε: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-Τι  πολίτες επιδιώκουμε να δημιουργήσουμε;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ε ελεύθερη βούλησ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Κριτική ικανότητ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Συνειδητοποιημένους και δραστήριου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Ικανούς να αξιοποιούν την ελευθερία τους για να επηρεάζουν οι ίδιοι τις συνθήκες της ζωής τους  συνδιαμορφώνοντας τους θεσμούς της κοινωνία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Συμπέρασμα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 </a:t>
            </a:r>
            <a:r>
              <a:rPr b="0" i="1" lang="el-GR" sz="2400" spc="-1" strike="noStrike" u="sng">
                <a:solidFill>
                  <a:srgbClr val="ffffff"/>
                </a:solidFill>
                <a:uFillTx/>
                <a:latin typeface="Tahoma"/>
              </a:rPr>
              <a:t>αειφορί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αποτελεί ουσιαστικά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Tahoma"/>
              </a:rPr>
              <a:t>το «πρίσμα»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Tahoma"/>
              </a:rPr>
              <a:t> με το οποίο πρέπει να προσεγγίζουμε 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Tahoma"/>
              </a:rPr>
              <a:t>κάθε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Tahoma"/>
              </a:rPr>
              <a:t>πρόγραμμα Περιβαλλοντικής εκπαίδευση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ανεξάρτητα από τη θεματολογία του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ας  ευχαριστώ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Βιβλιογραφία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uckle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,Εκπαίδευση για την αειφορία:Κατευθύνσεις για τη μεταρρύθμιση του αναλυτικού προγράμματος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outhBank Universi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aeiforosxoleio.gr</a:t>
            </a:r>
            <a:r>
              <a:rPr b="0" lang="en-GB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/content/.../Huckle%20Educ%20Sustain.pdf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πρόσβαση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4/1/201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port of the World Commission on Environment and Development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United Natio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98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Brundtland http://www.env-edu.gr/Default.asp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port of the World Commission on Environment and Development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United Natio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98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Brundtlan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por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U.N.E.S.C.O.,  (1997), Περιβάλλον και Κοινωνία: Εκπαίδευση και Ευαισθητοποίηση των πολιτών για την Αειφορία. Διεθνής Διάσκεψη Θεσσαλονίκη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U.N.E.S.C.O., (2005), UNESCO and Sustainable Developme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., Bauman.(1999)In search of politics. Stanfor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nford University Pr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Γ. Φαραγγιτάκης,Σπανού Μ.(2006 )Εκπαίδευση για την αειφορία και Περιβαλλοντική Εκπαίδευση στο Ελληνικό Εκπαιδευτικό Σύστημα,Πρακτικά 2ουΣυνέδριου Σχολικών Προγραμμάτων Περιβαλλοντικής Εκπαίδευσης, Αθήνα, 15-17 Δεκεμβρίου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Γ.,Υφαντής,Εισαγωγή στην εκπαίδευση για την αειφορία, υλικό από εκπαιδευτικό σεμινάριο του ΚΠΕ Κορδελιού Βερτίσκου που πραγματοποιήθηκε στις 9.3.201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Ζ.Μήλιου,(2012) </a:t>
            </a:r>
            <a:r>
              <a:rPr b="0" lang="el-GR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Θεματολογία και Διαστάσεις της Αειφόρου Ανάπτυξης στα Σχολικά Προγράμματα Περιβαλλοντικής Εκπαίδευσης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l-GR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</a:t>
            </a:r>
            <a:r>
              <a:rPr b="0" lang="el-GR" sz="1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tp://www.peekpe.gr/index.php/synedrio-5/erevnes-5ou/84-thematologia-kai-diastaseis-tis-aeiforou-anaptyksis-sta-sxolika-programmata-perivallontikis-ekpaidefsis</a:t>
            </a:r>
            <a:r>
              <a:rPr b="0" lang="el-GR" sz="1800" spc="-1" strike="noStrike" u="sng">
                <a:solidFill>
                  <a:srgbClr val="ffffff"/>
                </a:solidFill>
                <a:uFillTx/>
                <a:latin typeface="Tahoma"/>
              </a:rPr>
              <a:t> (πρόσβαση 14/1/201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Μ.Βουτυράκης (2005) Αρχές Αειφόρου Εκπαίδευσης. http://www.ecocrete.gr/index.php?option=com_content&amp;task=view&amp;id=1888&amp;Itemid=2 (Πρόσβαση:14/1/201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ΥΠΕΠΘ,Κείμενα Υπουργικών Αποφάσεων και εγκυκλίων που αφορούνστην Περιβαλλοντική Εκπαίδευσ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Φλογαΐτη Ε., (2006), Εκπαίδευση για το Περιβάλλον και την Αειφορία. Αθήνα: Ελληνικά Γράμματ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Η αειφορία ως έννοια: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365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 Δεν κληρονομούμε τον πλανήτη από τους προγόνους μας αλλά τον δανειζόμαστε από τα παιδιά μας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Ινδιάνικο ρητ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390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Ορισμός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l-GR" sz="3200" spc="-1" strike="noStrike" u="sng">
                <a:solidFill>
                  <a:srgbClr val="ffffff"/>
                </a:solidFill>
                <a:uFillTx/>
                <a:latin typeface="Tahoma"/>
              </a:rPr>
              <a:t>αειφορία: αεί + φέρ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υτός που πάντα παράγει, πάντα καρποφορε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Έκθεση Brundtland WCED, 198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Η ανάπτυξη είναι αειφόρος όταν ικανοποιεί τις σύγχρονες ανάγκες χωρίς να μειώνει τις δυνατότητες των μελλοντικών γενιών να καλύψουν τις δικές τους ανάγκες…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43400" y="3581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H </a:t>
            </a:r>
            <a:r>
              <a:rPr b="0" lang="el-GR" sz="4000" spc="-1" strike="noStrike" u="sng">
                <a:solidFill>
                  <a:srgbClr val="ffffff"/>
                </a:solidFill>
                <a:uFillTx/>
                <a:latin typeface="Tahoma"/>
              </a:rPr>
              <a:t> ανάπτυξη μέχρι σήμερα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ffff"/>
                </a:solidFill>
                <a:uFillTx/>
                <a:latin typeface="Tahoma"/>
              </a:rPr>
              <a:t>Η «αναφορά του Ζωντανού Πλανήτη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000" spc="-1" strike="noStrike">
                <a:solidFill>
                  <a:srgbClr val="ffffff"/>
                </a:solidFill>
                <a:latin typeface="Tahoma"/>
              </a:rPr>
              <a:t>Παγκόσμιο ταμείο για τη φύση,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WF</a:t>
            </a:r>
            <a:r>
              <a:rPr b="0" i="1" lang="el-G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05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οι άνθρωποι έχουν καταστρέψει πάνω από το 30% των παγκόσμιων φυσικών πόρων ήδη από το 19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κατανάλωση που είναι αποτέλεσμα της δημιουργίας αφθονίας προϊόντων από τη βιομηχανία έχει διπλασιαστεί τα τελευταία 25 χρόνι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276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Οι μισοί από τους προσβάσιμους πόρους σε καθαρό νερό, έχουν εξαντληθε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0194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Η κατανάλωση ξύλου και χαρτιού έχει αυξηθεί κατά 2/3 και οι εκπομπές διοξειδίου του άνθρακα έχουν διπλασιαστε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Η ανθρωπότητα σήμερα χρησιμοποιεί ποσοστό 25% με 50% όλου του φυτικού υλικού που αναπτύσσεται στον πλανήτη κάθε χρόνο και 10% από ολόκληρη τη θαλάσσια παραγωγ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 της παγκόσμιας δασικής κάλυψης έχει εξαλειφθεί ή υποβαθμιστεί και τα είδη που είναι υπό εξαφάνιση , εξαφανίζονται  με ρυθμούς 1000 φορές ταχύτερους του «κανονικού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Προβλήματα του μοντέλου ανάπτυξης: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Η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ανάπτυξη είχε σοβαρές αρνητικές επιπτώσεις στο περιβάλλον και τις κοινωνίε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Τα οφέλη της ανάπτυξης κατανεμήθηκαν άνισ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Ατμοσφαιρική ρύπανσ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Ρύπανση νερώ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Καταστροφή στοιβάδας του όζοντο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Όξινη βροχή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Φαινόμενο του θερμοκηπίο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Ερημοποίησ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Συρρίκνωση βιοποικιλότητα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Φτώχει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Υποσιτισμό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Πόλεμο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Έλλειψη δημοκρατία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9246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Από την Περιβαλλοντική εκπαίδευση στην εκπαίδευση  για το περιβάλλον και την αειφορία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332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H Περιβαλλοντική  Εκπαίδευση (ΠΕ) επαναπροσδιορίζεται  πια  ως  </a:t>
            </a:r>
            <a:r>
              <a:rPr b="0" i="1" lang="el-GR" sz="2000" spc="-1" strike="noStrike" u="sng">
                <a:solidFill>
                  <a:srgbClr val="ffffff"/>
                </a:solidFill>
                <a:uFillTx/>
                <a:latin typeface="Tahoma"/>
              </a:rPr>
              <a:t>Εκπαίδευση για το Περιβάλλον και την Αειφορία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και αποτελεί κεντρικό άξονα των διακηρύξεων και των διεθνών διασκέψεων για το περιβάλλο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(1987 Μόσχα, 1992 Ρί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 2005 ο ΟΗΕ και η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ESCO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ορίζουν ως εκπαιδευτικό στόχο για τη Δεκαετία 2005-2014 την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Tahoma"/>
              </a:rPr>
              <a:t>Εκπαίδευση για την Αειφόρο Ανάπτυξη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Η εκπαίδευση είναι η καλύτερη ελπίδα της ανθρωπότητας και το πιο αποτελεσματικό μέσο για την αναζήτηση της επίτευξης της Βιώσιμης Ανάπτυξης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UNESCO, 19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057400"/>
            <a:ext cx="27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ΒΑΣΙΚΟΣ ΣΤΟΧΟΣ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l-GR" sz="2000" spc="-1" strike="noStrike">
                <a:solidFill>
                  <a:srgbClr val="ffffff"/>
                </a:solidFill>
                <a:latin typeface="Tahoma"/>
              </a:rPr>
              <a:t>Η εκπαίδευση για την αειφόρο/βιώσιμη ανάπτυξη πρέπει να στοχεύει στη ριζική αλλαγή προτύπων παραγωγής και κατανάλωσης αλλά και στην αλλαγή του  τρόπου ζωής των πολιτώ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ffffff"/>
                </a:solidFill>
                <a:uFillTx/>
                <a:latin typeface="Tahoma"/>
              </a:rPr>
              <a:t>Σκοπός  Περιβαλλοντικής Εκπαίδευσης είνα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ffffff"/>
                </a:solidFill>
                <a:uFillTx/>
                <a:latin typeface="Tahoma"/>
              </a:rPr>
              <a:t>να δραστηριοποιηθούν οι μαθητές με ειδικά προγράμματα, ώστε να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συνειδητοποιήσουν οι μαθητές τη σχέση του ανθρώπου με το φυσικό και το κοινωνικό περιβάλλον το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να   ευαισθητοποιηθούν για τα προβλήματα που συνδέονται με αυτ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συμβάλλουν στη γενικότερη προσπάθεια αντιμετώπισής τους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(Νόμος 1892/31-7-199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Οι διαστάσεις της αειφορία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Η έννοια της βιώσιμης ανάπτυξης ενσωματώνει στη λέξη «περιβάλλον» τέσσερα συστήματα που αποτελούν τις διαστάσεις της αειφορία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Το βιοφυσικό: όλοι οι ζωντανοί οργανισμοί, οιφυσικοί πόροι και τα συστήματα που υποστηρίζου στη ζωή (αέρας, έδαφος, κλ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Το κοινωνικό: οι τρόποι συνύπαρξης των ανθρώπων (οικογένεια, κοινότητα, κλ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Το οικονομικό: οι τρόποι εξασφάλισης των προς το ζην (επαγγέλματα, εισοδήματα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Το πολιτικό: η πολιτική, οι θεσμοί, η λήψη αποφάσεω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Σε ένα πρόγραμμα ΠΕ  /ΕΑΑ επιδιώκουμε να 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1337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Να έρθουν σε επαφή με πληθώρα πληροφοριών και δεδομένων που σχετίζονται με ζητήματα περιβάλλοντος και αειφόρου ανάπτυξη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048120"/>
            <a:ext cx="729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Να προσεγγίζουν τα περιβαλλοντικά προβλήματα όχι μόνο ως φυσικά φαινόμενα αλλά και ως κοινωνικά, πολιτικά και πολιτισμικά ζητήματ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562720"/>
            <a:ext cx="77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Να συνειδητοποιήσουν τους κοινωνικούς, οικονομικούς, πολιτικούς, πολιτιστικούς και ηθικούς παράγοντες που υπάρχουν και να αναζητούν μέσα από τη γνώση δημοκρατικές λύσει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10800000">
            <a:off x="914400" y="43430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Να αντιλαμβάνονται τα ζητήματα του περιβάλλοντος και της αειφορίας ως πεδία σύγκρουσης απόψεων και συμφερόντων σε τοπικό και διεθνές επίπεδ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01:52Z</dcterms:created>
  <dc:creator>User</dc:creator>
  <dc:description/>
  <dc:language>en-US</dc:language>
  <cp:lastModifiedBy>User</cp:lastModifiedBy>
  <dcterms:modified xsi:type="dcterms:W3CDTF">2013-01-18T10:32:5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